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5C3-3681-4122-B40E-A80F53D6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710-9AC6-416E-BDC5-C0C4B386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C48-9D14-4BA9-94EC-193FC377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1BC-A7AE-496D-A833-6B401CA3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DB8-2392-46CF-A73C-05695FAE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8EE-A388-41BE-9272-A01FFB03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F58-D772-49C6-BA78-F2145CF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A46-6C12-4433-AF28-462C956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2B76-DE28-4001-9A15-1FA05B1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3CF-45F9-47AB-A4C3-E5C6832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C6A-B043-4B46-8C9D-9CC8AF8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A35-63A2-4822-812D-6D2E20B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0C9-F88E-437D-B658-D8B4FD95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1" TargetMode="External"/><Relationship Id="rId3" Type="http://schemas.microsoft.com/office/2007/relationships/media" Target="file:///tmp/home/.config/libreoffice/4/user/gallery/Recorded%20Sound1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video" Target="file:///tmp/home/.config/libreoffice/4/user/gallery/Recorded%20Sound4" TargetMode="External"/><Relationship Id="rId5" Type="http://schemas.microsoft.com/office/2007/relationships/media" Target="file:///tmp/home/.config/libreoffice/4/user/gallery/Recorded%20Sound4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‘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D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RIS E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’S WAS A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HAD A BROTHER AND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86600" y="5094360"/>
            <a:ext cx="2057400" cy="176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ORKED 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MASTER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SON REPLAC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8:10:36Z</dcterms:created>
  <dc:creator>test</dc:creator>
  <dc:description/>
  <dc:language>en-US</dc:language>
  <cp:lastModifiedBy>test</cp:lastModifiedBy>
  <dcterms:modified xsi:type="dcterms:W3CDTF">2011-03-30T18:08:47Z</dcterms:modified>
  <cp:revision>3</cp:revision>
  <dc:subject/>
  <dc:title>Slide 1</dc:title>
</cp:coreProperties>
</file>